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9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151C125-BD5A-4031-B3F6-4ED1A0B53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9F6-128E-4B31-8BDA-299313AC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B40-76C3-4CDD-A68B-16906B8A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EEA-5609-4F5F-9C6E-CAC75212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8C9-494C-49CE-9AC9-7820701A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8EFC-7866-4AC7-AEE8-B750FB36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7F7E-2C5C-45C4-8A75-41CADE6B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878B-D1BA-4950-8E71-56DB59E1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FCC4-D7A8-4D9D-AFAA-6D33E56C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CB32-63C5-40B1-89CA-0707E87E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5C1C-08F4-4127-9326-F6D62B96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7FA7-258F-49E7-A623-A582977D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6FC-B52D-4A57-99D2-2B3ACEB3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5A6D-9538-4D5A-A564-55C8F2F9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ED0A-D7AF-4E61-A88F-FDC6E536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5C05-B79E-454B-945E-5B6D4564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C1EF-C8C8-4B49-9E13-37B44CB1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447C-3278-4B10-B1BF-505B560D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A0C-C170-44E1-B01D-6BF55DF0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C58-D250-4E8C-9E57-3AC17C03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056-E1C7-4E62-B6A5-4C193297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941-AB8F-4E16-9EAF-91B17593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E2F-C1AC-4583-B003-B13367A9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6A9-C7FE-46AE-A872-2C276A2F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D93-583B-4A3F-B778-6D1B572B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0A39-51DF-4514-8C54-9A50924985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EFA4-53D2-407C-827C-40CAC79AD88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Monday, November 1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ll Work:  Sally guessed on one of her math questions.  There were four answers to choose from.  What is the probability that she answered the question correctly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-Unit 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4200" spc="-1" strike="noStrike">
                <a:solidFill>
                  <a:srgbClr val="ffff99"/>
                </a:solidFill>
                <a:latin typeface="Broadway"/>
              </a:rPr>
              <a:t>Tuesday, November 2, 2010</a:t>
            </a:r>
            <a:endParaRPr b="0" lang="en-US" sz="4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l work: What are parallel line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nes and Ang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son 3.1, problems 2-2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600" spc="-1" strike="noStrike">
                <a:solidFill>
                  <a:srgbClr val="ffff99"/>
                </a:solidFill>
                <a:latin typeface="Broadway"/>
              </a:rPr>
              <a:t>Wednesday November 4, 2010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l work: Solve 2x + 3 = 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nes and Ang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son 3.2, problems 3-9, 11-16, 29-3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1-04T22:03:06Z</dcterms:modified>
  <cp:revision>56</cp:revision>
  <dc:subject/>
  <dc:title>Slide 1</dc:title>
</cp:coreProperties>
</file>